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jeopardy.wav" ContentType="audio/x-wav"/>
  <Override PartName="/ppt/media/gunshot.wav" ContentType="audio/x-wav"/>
  <Override PartName="/ppt/media/timesu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49856-D7D4-4AAB-9A50-0FDA2E66C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BD10-7B6C-4F18-8711-B6BCA3330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CCB7-0DAA-4079-AEFC-C7109A4E0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FFAC-099A-4461-9FFA-61379F31D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F58DD-C850-4F83-9BFA-A324A28023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9021E-E916-4E57-88F4-B27BAC3DE3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D5099-9024-421C-AA1E-763933F455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F974F-7DD6-4BD6-824E-F1EBEA11DC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685D9-98C5-4D3D-A1D2-E62EFCCA82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81C37-516A-40EE-BB19-63A29C295F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21EF2-077B-4821-AE08-CF1EE42201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D284-31E7-445B-BE3D-AE1E892DB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7692D-0BD4-4AF3-BCAE-30EF9D462D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B85A6-B987-4DB2-8FD0-F8141251B8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538F2-E8D9-4A50-A4EF-CB25CA00FD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529BB-8E2E-4899-869F-3CB5584A8F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D78D6-58CE-486B-A6EB-53F4E3151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C1D4-6257-4BDD-A4B5-E29E31503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E55D-1D01-470C-9281-2679F262E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FAE9-E683-46AC-ADCB-C80D5A43F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E5C5-D57B-445C-A5EC-B3ACCA270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2DC7-AC4D-4F81-A5B2-AC08A8765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2EFB-2A7C-4D31-A242-EAD150580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D0C4-3A93-4FAC-A8BA-B29A4E320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-</a:t>
            </a:r>
            <a:fld id="{F42236C3-C239-43B9-88D0-26B8B8AEF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048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73915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"/>
              </a:rPr>
              <a:t>8-</a:t>
            </a:r>
            <a:fld id="{09FA3DB4-D6F3-4286-832F-55A3E4E1218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gunshot.wav"/><Relationship Id="rId4" Type="http://schemas.openxmlformats.org/officeDocument/2006/relationships/audio" Target="../media/jeopardy.wav"/><Relationship Id="rId5" Type="http://schemas.openxmlformats.org/officeDocument/2006/relationships/audio" Target="../media/timesup.wav"/><Relationship Id="rId6" Type="http://schemas.openxmlformats.org/officeDocument/2006/relationships/audio" Target="../media/jeopardy.wav"/><Relationship Id="rId7" Type="http://schemas.openxmlformats.org/officeDocument/2006/relationships/audio" Target="../media/timesup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jeopardy.wav"/><Relationship Id="rId4" Type="http://schemas.openxmlformats.org/officeDocument/2006/relationships/audio" Target="../media/timesup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jeopardy.wav"/><Relationship Id="rId4" Type="http://schemas.openxmlformats.org/officeDocument/2006/relationships/audio" Target="../media/timesup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jeopardy.wav"/><Relationship Id="rId4" Type="http://schemas.openxmlformats.org/officeDocument/2006/relationships/audio" Target="../media/timesup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jeopardy.wav"/><Relationship Id="rId4" Type="http://schemas.openxmlformats.org/officeDocument/2006/relationships/audio" Target="../media/timesup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jeopardy.wav"/><Relationship Id="rId4" Type="http://schemas.openxmlformats.org/officeDocument/2006/relationships/audio" Target="../media/timesup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4"/>
          <p:cNvSpPr/>
          <p:nvPr/>
        </p:nvSpPr>
        <p:spPr>
          <a:xfrm>
            <a:off x="7238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"/>
              </a:rPr>
              <a:t>8-</a:t>
            </a:r>
            <a:fld id="{AA2279E8-45A8-4DE6-91E6-0B5F580A818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ols Olympi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se your 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will work in your grou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s will compete against each other to see who gets the most right answers to the questions you will b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inning team will walk away 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AND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7238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"/>
              </a:rPr>
              <a:t>8-</a:t>
            </a:r>
            <a:fld id="{FABAFA96-A1D2-4131-A21F-23F6E66BD25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133720" y="36756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  <a:ea typeface="Times New Roman"/>
              </a:rPr>
              <a:t>CHAPTER 8 OLYMPIC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346040"/>
          <a:ext cx="8058240" cy="417528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028880"/>
                <a:gridCol w="1085760"/>
                <a:gridCol w="1314360"/>
                <a:gridCol w="188604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INDIVIDUAL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MINUTES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Closed book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Book Open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Closed book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Book Open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1 (Pg 1-2)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2 (Pg 3-4)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3 (Pg 5-6)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4 (Pg 7-8)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5 (Pg 9-10)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6 (Pg 11)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66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2"/>
          <p:cNvSpPr/>
          <p:nvPr/>
        </p:nvSpPr>
        <p:spPr>
          <a:xfrm>
            <a:off x="7238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"/>
              </a:rPr>
              <a:t>8-</a:t>
            </a:r>
            <a:fld id="{6DC383C0-4DC6-460D-84C6-33864F506FD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533520" y="19051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99cccc"/>
                </a:solidFill>
                <a:latin typeface="Balloon Bd BT"/>
              </a:rPr>
              <a:t>Round 1, pages 1-2</a:t>
            </a:r>
            <a:endParaRPr b="0" lang="en-US" sz="6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971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Individual – Closed Book  4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62120" y="41911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Group – Closed Book 3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8" name="jeop846.wav" descr=""/>
          <p:cNvPicPr/>
          <p:nvPr/>
        </p:nvPicPr>
        <p:blipFill>
          <a:blip r:embed="rId1"/>
          <a:stretch/>
        </p:blipFill>
        <p:spPr>
          <a:xfrm>
            <a:off x="8686800" y="20574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99" name="time846.wav" descr=""/>
          <p:cNvPicPr/>
          <p:nvPr/>
        </p:nvPicPr>
        <p:blipFill>
          <a:blip r:embed="rId2"/>
          <a:stretch/>
        </p:blipFill>
        <p:spPr>
          <a:xfrm>
            <a:off x="8686800" y="2438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7179840" y="45115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grou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837360" y="60199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Individu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914400" y="3733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30 second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838080" y="5562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30 second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900000" y="3317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839880" y="52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295280" y="228600"/>
            <a:ext cx="685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Times New Roman"/>
              </a:rPr>
              <a:t>Accounting Junior Core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Times New Roman"/>
              </a:rPr>
              <a:t>Control Olympics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762120" y="4876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Group – Open Book 2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27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7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3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ime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3200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4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6500"/>
                            </p:stCondLst>
                            <p:childTnLst>
                              <p:par>
                                <p:cTn id="41" nodeType="afterEffect" fill="hold" presetClass="entr" presetID="11">
                                  <p:stCondLst>
                                    <p:cond delay="27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77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3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ime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32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2"/>
          <p:cNvSpPr/>
          <p:nvPr/>
        </p:nvSpPr>
        <p:spPr>
          <a:xfrm>
            <a:off x="7238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"/>
              </a:rPr>
              <a:t>8-</a:t>
            </a:r>
            <a:fld id="{6F25E114-0647-4F21-A99F-2229065E8BD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33520" y="190512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99cccc"/>
                </a:solidFill>
                <a:latin typeface="Balloon Bd BT"/>
              </a:rPr>
              <a:t>Round 2, pages 3-4</a:t>
            </a:r>
            <a:endParaRPr b="0" lang="en-US" sz="6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3809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Individual – Open Book 2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62120" y="4952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Group – Closed Book 3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2" name="jeop862.wav" descr=""/>
          <p:cNvPicPr/>
          <p:nvPr/>
        </p:nvPicPr>
        <p:blipFill>
          <a:blip r:embed="rId1"/>
          <a:stretch/>
        </p:blipFill>
        <p:spPr>
          <a:xfrm>
            <a:off x="8686800" y="20574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13" name="time862.wav" descr=""/>
          <p:cNvPicPr/>
          <p:nvPr/>
        </p:nvPicPr>
        <p:blipFill>
          <a:blip r:embed="rId2"/>
          <a:stretch/>
        </p:blipFill>
        <p:spPr>
          <a:xfrm>
            <a:off x="8686800" y="2438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2896560" y="44197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grou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437560" y="55627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Individu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66680" y="5562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30 second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3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54080" y="5562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295280" y="228600"/>
            <a:ext cx="685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Times New Roman"/>
              </a:rPr>
              <a:t>Accounting Junior Core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Times New Roman"/>
              </a:rPr>
              <a:t>Control Olympics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762120" y="28195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Individual – Closed Book 4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972880" y="33526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grou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54080" y="342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1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9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3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me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3200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2"/>
          <p:cNvSpPr/>
          <p:nvPr/>
        </p:nvSpPr>
        <p:spPr>
          <a:xfrm>
            <a:off x="7238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"/>
              </a:rPr>
              <a:t>8-</a:t>
            </a:r>
            <a:fld id="{B71B79F3-0354-4A86-80D4-C9028B1878E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533520" y="1905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99cccc"/>
                </a:solidFill>
                <a:latin typeface="Balloon Bd BT"/>
              </a:rPr>
              <a:t>Round 3, pages 5-6</a:t>
            </a:r>
            <a:endParaRPr b="0" lang="en-US" sz="6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62120" y="3809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Group – Closed Book 3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120" y="4952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Group – Open Book 2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jeop877.wav" descr=""/>
          <p:cNvPicPr/>
          <p:nvPr/>
        </p:nvPicPr>
        <p:blipFill>
          <a:blip r:embed="rId1"/>
          <a:stretch/>
        </p:blipFill>
        <p:spPr>
          <a:xfrm>
            <a:off x="8686800" y="20574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28" name="time877.wav" descr=""/>
          <p:cNvPicPr/>
          <p:nvPr/>
        </p:nvPicPr>
        <p:blipFill>
          <a:blip r:embed="rId2"/>
          <a:stretch/>
        </p:blipFill>
        <p:spPr>
          <a:xfrm>
            <a:off x="8686800" y="2438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2896560" y="44197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grou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437560" y="55627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Individu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066680" y="5562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30 second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3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54080" y="5562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1295280" y="228600"/>
            <a:ext cx="685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Times New Roman"/>
              </a:rPr>
              <a:t>Accounting Junior Core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Times New Roman"/>
              </a:rPr>
              <a:t>Control Olympics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62120" y="28195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Individual – Closed Book 3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2972880" y="33526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grou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154080" y="342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3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me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3200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2"/>
          <p:cNvSpPr/>
          <p:nvPr/>
        </p:nvSpPr>
        <p:spPr>
          <a:xfrm>
            <a:off x="7238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"/>
              </a:rPr>
              <a:t>8-</a:t>
            </a:r>
            <a:fld id="{5C4A3414-7D29-47D4-984B-FCBA63E6931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533520" y="1905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99cccc"/>
                </a:solidFill>
                <a:latin typeface="Balloon Bd BT"/>
              </a:rPr>
              <a:t>Round 4, pages 7-8</a:t>
            </a:r>
            <a:endParaRPr b="0" lang="en-US" sz="6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62120" y="4952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Group – Open Book 4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jeop893.wav" descr=""/>
          <p:cNvPicPr/>
          <p:nvPr/>
        </p:nvPicPr>
        <p:blipFill>
          <a:blip r:embed="rId1"/>
          <a:stretch/>
        </p:blipFill>
        <p:spPr>
          <a:xfrm>
            <a:off x="8686800" y="20574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42" name="time893.wav" descr=""/>
          <p:cNvPicPr/>
          <p:nvPr/>
        </p:nvPicPr>
        <p:blipFill>
          <a:blip r:embed="rId2"/>
          <a:stretch/>
        </p:blipFill>
        <p:spPr>
          <a:xfrm>
            <a:off x="8686800" y="2438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2896560" y="44197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grou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437560" y="55627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Individu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66680" y="5562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30 second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3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54080" y="5562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295280" y="228600"/>
            <a:ext cx="685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Times New Roman"/>
              </a:rPr>
              <a:t>Accounting Junior Core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Times New Roman"/>
              </a:rPr>
              <a:t>Control Olympics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762120" y="28195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Group – Closed Book 3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972880" y="33526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grou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154080" y="342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27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77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3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me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3200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7238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"/>
              </a:rPr>
              <a:t>8-</a:t>
            </a:r>
            <a:fld id="{85E6D073-D408-4229-BE79-CA6E6839F1E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533520" y="1905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99cccc"/>
                </a:solidFill>
                <a:latin typeface="Balloon Bd BT"/>
              </a:rPr>
              <a:t>Round 5, pages 9-10</a:t>
            </a:r>
            <a:endParaRPr b="0" lang="en-US" sz="6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2120" y="4952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Group – Open Book 2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5" name="jeop908.wav" descr=""/>
          <p:cNvPicPr/>
          <p:nvPr/>
        </p:nvPicPr>
        <p:blipFill>
          <a:blip r:embed="rId1"/>
          <a:stretch/>
        </p:blipFill>
        <p:spPr>
          <a:xfrm>
            <a:off x="8686800" y="20574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56" name="time908.wav" descr=""/>
          <p:cNvPicPr/>
          <p:nvPr/>
        </p:nvPicPr>
        <p:blipFill>
          <a:blip r:embed="rId2"/>
          <a:stretch/>
        </p:blipFill>
        <p:spPr>
          <a:xfrm>
            <a:off x="8686800" y="2438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896560" y="44197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grou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37560" y="55627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Individu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066680" y="5562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30 second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3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54080" y="5562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295280" y="228600"/>
            <a:ext cx="685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Times New Roman"/>
              </a:rPr>
              <a:t>Accounting Junior Core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Times New Roman"/>
              </a:rPr>
              <a:t>Control Olympics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762120" y="28195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Individual – Open Book 2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972880" y="33526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grou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990720" y="3429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30 second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54080" y="342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11">
                                  <p:stCondLst>
                                    <p:cond delay="27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77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3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me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3200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2"/>
          <p:cNvSpPr/>
          <p:nvPr/>
        </p:nvSpPr>
        <p:spPr>
          <a:xfrm>
            <a:off x="7238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"/>
              </a:rPr>
              <a:t>8-</a:t>
            </a:r>
            <a:fld id="{884DF8A4-C3A6-42BA-B76B-04E7151A0B5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33520" y="1905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99cccc"/>
                </a:solidFill>
                <a:latin typeface="Balloon Bd BT"/>
              </a:rPr>
              <a:t>Round 6, page 11</a:t>
            </a:r>
            <a:endParaRPr b="0" lang="en-US" sz="6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62120" y="4952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Group – Open Book 1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0" name="jeop908.wav" descr=""/>
          <p:cNvPicPr/>
          <p:nvPr/>
        </p:nvPicPr>
        <p:blipFill>
          <a:blip r:embed="rId1"/>
          <a:stretch/>
        </p:blipFill>
        <p:spPr>
          <a:xfrm>
            <a:off x="8686800" y="20574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71" name="time908.wav" descr=""/>
          <p:cNvPicPr/>
          <p:nvPr/>
        </p:nvPicPr>
        <p:blipFill>
          <a:blip r:embed="rId2"/>
          <a:stretch/>
        </p:blipFill>
        <p:spPr>
          <a:xfrm>
            <a:off x="8686800" y="2438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2896560" y="44197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grou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437560" y="55627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Individu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066680" y="5562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30 second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30400" y="4495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154080" y="5562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295280" y="228600"/>
            <a:ext cx="685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Times New Roman"/>
              </a:rPr>
              <a:t>Accounting Junior Core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66"/>
                </a:solidFill>
                <a:latin typeface="Times New Roman"/>
              </a:rPr>
              <a:t>Control Olympics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762120" y="28195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Times New Roman"/>
              </a:rPr>
              <a:t>Individual – Open Book 1 minute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2972880" y="33526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p group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990720" y="3429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Times New Roman"/>
              </a:rPr>
              <a:t>30 second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154080" y="342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n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27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770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3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me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32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7:18:51Z</dcterms:created>
  <dc:creator>S. Bhattacharya</dc:creator>
  <dc:description/>
  <dc:language>en-US</dc:language>
  <cp:lastModifiedBy>David Wood</cp:lastModifiedBy>
  <dcterms:modified xsi:type="dcterms:W3CDTF">2013-09-27T12:45:07Z</dcterms:modified>
  <cp:revision>139</cp:revision>
  <dc:subject/>
  <dc:title>Accounting  Information  Systems 9th Edition</dc:title>
</cp:coreProperties>
</file>